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2B4-AB86-49D2-89C6-C6782E6A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4424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D4B7-6F53-4E08-BA4D-91FA643A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12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3EC7-F047-4BEE-BC8D-61A27D8A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728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752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728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752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59C7-6995-4493-9F20-CEE4B8FB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D5B9-30B8-4700-83BE-57C22EF1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4172-3E03-42D4-B9C7-C626B69E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F8B3-24E2-44B6-BD89-C0ACBA3E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F51D-E905-4E2C-B729-A7712B92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0663-8A46-427F-AAD3-E6F82152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EA9B-8C4A-4F51-854A-2A876371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7066-44E1-4966-B949-C50BD52A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99A-449F-43A6-97F1-40E83284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912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B70F-0FDF-49E6-A84E-681963F0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F7C8-056E-4C5E-857E-3B0AB684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404424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A75A-866A-4CEB-9969-6187EC4B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912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9483-D193-4534-AD77-43CA55D4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728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752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728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752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B751-ACCA-4C71-BE83-2DD4438E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26CCE-B1B9-41E4-A70A-3187D7F2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39DE2-E1C6-4CC0-BBD1-FD86F33D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A8071-D67F-43B7-A065-F88BBBBA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83D56-607F-4C7B-B814-0D6558BA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FEB5B-A73A-48C3-8106-38AD9C4E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381D-1480-44D9-8292-68559829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D7C18-928A-4F03-AEE3-074D685C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5CAB4-51EC-40F8-AE98-F2CFD74C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912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68707-0BE1-497D-B277-6CCC8B83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E36D1-A49D-49E3-9DEF-50EB58A6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66680" y="404424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24849-39EA-4F65-8FB7-D37DCE8A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912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57F19-C359-444E-9D4A-1C7516D4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3728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0752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6668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3728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0752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A8164-2B41-4C30-A000-8ABDC3AD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DFF2E-7FB5-4466-AEB8-49347372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D4D6E-F86D-4CD6-8919-25D08973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21D95-F1FD-4D7B-865E-830BF398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62C-65A7-4C21-9F85-ACB3A208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AC6A5-051E-4DC1-A1B0-C9C6433C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1DFF5-DEA0-4266-AC4E-6DFC0570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5D787-A3B0-43A3-8BC6-E7855195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31C45-366C-465A-B4FB-5314107C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912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C1D5E-EC2C-4FC8-AEDD-A76013D9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DC106-9C54-427A-AA18-257E7AD3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066680" y="404424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DBC6E-8259-4D17-85A0-B46A9684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912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6A9C3-C531-4BF4-A50C-AFFA4A45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3728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0752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06668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3728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80752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4F156-9504-4205-84AE-3DB46691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F59-8E20-4183-9A9C-B9708082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BFC-3C50-4573-8A40-77D7C4CA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A5B9-B018-49F8-8FCC-85B4E864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12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605-C5AA-49A0-8C7F-C1963A64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C54A-477A-42ED-AE89-F833B445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1" marL="579240" indent="-222840">
              <a:spcBef>
                <a:spcPts val="901"/>
              </a:spcBef>
              <a:buClr>
                <a:srgbClr val="cc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2" marL="891360" indent="-17820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3" marL="1248120" indent="-178200">
              <a:spcBef>
                <a:spcPts val="901"/>
              </a:spcBef>
              <a:buClr>
                <a:srgbClr val="cc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4" marL="1604520" indent="-178200">
              <a:spcBef>
                <a:spcPts val="901"/>
              </a:spcBef>
              <a:buClr>
                <a:srgbClr val="cc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5" marL="1604520" indent="-178200">
              <a:spcBef>
                <a:spcPts val="9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6" marL="1604520" indent="-178200">
              <a:spcBef>
                <a:spcPts val="9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2898-1C09-4A00-A9A0-67AF58F2B97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powerpointTemplates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125C-6969-4CC2-BA3E-18C8C33F4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1" marL="579240" indent="-222840">
              <a:spcBef>
                <a:spcPts val="901"/>
              </a:spcBef>
              <a:buClr>
                <a:srgbClr val="cc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2" marL="891360" indent="-17820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3" marL="1248120" indent="-178200">
              <a:spcBef>
                <a:spcPts val="901"/>
              </a:spcBef>
              <a:buClr>
                <a:srgbClr val="cc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4" marL="1604520" indent="-178200">
              <a:spcBef>
                <a:spcPts val="901"/>
              </a:spcBef>
              <a:buClr>
                <a:srgbClr val="cc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5" marL="1604520" indent="-178200">
              <a:spcBef>
                <a:spcPts val="9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6" marL="1604520" indent="-178200">
              <a:spcBef>
                <a:spcPts val="9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D389-4F9C-4ADD-BC3A-2CF5B1B10AC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2006 www.brainybett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0C72-0DCB-48F5-B0F7-42E721C59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1" marL="579240" indent="-222840">
              <a:spcBef>
                <a:spcPts val="901"/>
              </a:spcBef>
              <a:buClr>
                <a:srgbClr val="cc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2" marL="891360" indent="-17820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3" marL="1248120" indent="-178200">
              <a:spcBef>
                <a:spcPts val="901"/>
              </a:spcBef>
              <a:buClr>
                <a:srgbClr val="cc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4" marL="1604520" indent="-178200">
              <a:spcBef>
                <a:spcPts val="901"/>
              </a:spcBef>
              <a:buClr>
                <a:srgbClr val="cc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5" marL="1604520" indent="-178200">
              <a:spcBef>
                <a:spcPts val="9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6" marL="1604520" indent="-178200">
              <a:spcBef>
                <a:spcPts val="9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571B-34D2-49EC-B606-19F257454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1" marL="579240" indent="-222840">
              <a:spcBef>
                <a:spcPts val="901"/>
              </a:spcBef>
              <a:buClr>
                <a:srgbClr val="cc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2" marL="891360" indent="-17820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3" marL="1248120" indent="-178200">
              <a:spcBef>
                <a:spcPts val="901"/>
              </a:spcBef>
              <a:buClr>
                <a:srgbClr val="cc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4" marL="1604520" indent="-178200">
              <a:spcBef>
                <a:spcPts val="901"/>
              </a:spcBef>
              <a:buClr>
                <a:srgbClr val="cc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5" marL="1604520" indent="-178200">
              <a:spcBef>
                <a:spcPts val="9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6" marL="1604520" indent="-178200">
              <a:spcBef>
                <a:spcPts val="9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E5C5-F1C1-451C-AF5D-C31362293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0a0"/>
                </a:solidFill>
                <a:latin typeface="Andy"/>
              </a:rPr>
              <a:t>Curriculum</a:t>
            </a:r>
            <a:br>
              <a:rPr sz="7200"/>
            </a:br>
            <a:r>
              <a:rPr b="0" lang="en-US" sz="7200" spc="-1" strike="noStrike">
                <a:solidFill>
                  <a:srgbClr val="7030a0"/>
                </a:solidFill>
                <a:latin typeface="Andy"/>
              </a:rPr>
              <a:t>Preview</a:t>
            </a: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ndy"/>
              </a:rPr>
              <a:t>Shiela Mae S. Icalina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ndy"/>
              </a:rPr>
              <a:t>Grade IV-Ruby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ndy"/>
              </a:rPr>
              <a:t>SY 2011-2012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Andy"/>
              </a:rPr>
              <a:t>MATHEMATICS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Basic Operation –MDAS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FRACTIONS, DECIMALS AND PERCENTS.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GEOMETRY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CHARTING AND GRAPHING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3800520" cy="365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ndy"/>
              </a:rPr>
              <a:t>LANGUAGE ARTS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3526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entence Construction Development 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GRAMMAR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Figures of Speech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POETRY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899320" y="2133720"/>
            <a:ext cx="1873080" cy="3101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Andy"/>
              </a:rPr>
              <a:t>SCIENCE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WEATHER AND  CLIMATE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spcBef>
                <a:spcPts val="624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ndy"/>
              </a:rPr>
              <a:t>TYPES OF CLOUDS</a:t>
            </a:r>
            <a:endParaRPr b="0" lang="en-US" sz="2500" spc="-1" strike="noStrike">
              <a:solidFill>
                <a:srgbClr val="000000"/>
              </a:solidFill>
              <a:latin typeface="Andy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OLAR SYSTEM AND SPACE SCIENCE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3781440" cy="350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ndy"/>
              </a:rPr>
              <a:t>DISCIPLINE IS A MUST TO OBTAIN</a:t>
            </a: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438280" y="2290680"/>
            <a:ext cx="4648320" cy="361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19807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ndy"/>
              </a:rPr>
              <a:t>I am looking forward to teach you </a:t>
            </a:r>
            <a:br>
              <a:rPr sz="2800"/>
            </a:br>
            <a:r>
              <a:rPr b="0" lang="en-US" sz="2800" spc="-1" strike="noStrike">
                <a:solidFill>
                  <a:srgbClr val="00b050"/>
                </a:solidFill>
                <a:latin typeface="Andy"/>
              </a:rPr>
              <a:t>in this school year</a:t>
            </a:r>
            <a:endParaRPr b="0" lang="en-US" sz="28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D2C1-DD87-4F28-A699-CE6FEBF2F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4314600" cy="2210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9:31:52Z</dcterms:created>
  <dc:creator>Khuram</dc:creator>
  <dc:description/>
  <dc:language>en-US</dc:language>
  <cp:lastModifiedBy>pc</cp:lastModifiedBy>
  <dcterms:modified xsi:type="dcterms:W3CDTF">2011-10-09T11:43:05Z</dcterms:modified>
  <cp:revision>12</cp:revision>
  <dc:subject/>
  <dc:title>Back to School 2009</dc:title>
</cp:coreProperties>
</file>